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30D-A2E2-4634-80F9-D8619C33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F81-44F4-4B21-B92E-39BC0B10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974-2444-4F2B-8ED5-00D4DE54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EA6-A504-4182-A938-1034F22A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91A-A775-474E-AD74-36078808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892-C6E4-4A43-A81C-28C06D6E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501-DB84-4A6B-BCB7-3949BE6D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BE0-66C9-41BD-B4A1-FB27A14C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B26-D1B5-4C3E-A0F7-00966A87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2EE-5B94-4A1F-93D2-B52DD27F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3A2-5273-43C0-99E3-F8EC00EE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568-B53F-4D4B-A654-C7F14FF4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BA43-4BEB-47C4-AB71-0FAD3C7A7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6666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 يا ر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عز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قدر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جلال والبه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مج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الجبر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ك الملك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ك السياد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قد ارتفعت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ملكا على                    الجم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3-01-31T04:27:31Z</dcterms:modified>
  <cp:revision>7</cp:revision>
  <dc:subject/>
  <dc:title>PowerPoint Presentation</dc:title>
</cp:coreProperties>
</file>